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903240" y="740880"/>
            <a:ext cx="49291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920" bIns="4392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7"/>
          </p:nvPr>
        </p:nvSpPr>
        <p:spPr>
          <a:xfrm>
            <a:off x="-3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18"/>
          </p:nvPr>
        </p:nvSpPr>
        <p:spPr>
          <a:xfrm>
            <a:off x="38145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fi-FI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409F2A1-98EF-498F-B519-3721392949C4}" type="slidenum">
              <a:rPr b="0" lang="fi-FI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Dian numeron paikkamerkki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41B2887-164A-413A-B7BA-6ABB6BFDAA1C}" type="slidenum">
              <a:rPr b="0" lang="fi-FI" sz="900" spc="-1" strike="noStrike">
                <a:solidFill>
                  <a:srgbClr val="30303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Dian numeron paikkamerkki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AFF3F62-18F1-4DB0-9BBF-CB8606B712A2}" type="slidenum">
              <a:rPr b="0" lang="fi-FI" sz="900" spc="-1" strike="noStrike">
                <a:solidFill>
                  <a:srgbClr val="30303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7406-48C8-4BF7-92EF-95B62945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D13-D96A-43C4-88CF-0545432B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6CCF-D560-4995-AD95-40AE2B6E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B12-83EA-44AB-8F38-45BB61A5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9E93D-E9D1-42A7-86E4-BC9D104C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71D97-967A-46A1-B864-3D45A7C9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F78AB-4D3B-4F07-8A21-4EA0ED0B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F750C-1C90-441A-9D4C-AFD78ED2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D3757-FBA8-4DE5-9EF6-F9B68B54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CADFA-4608-4D51-8103-3BF8546A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61A6F-93FB-40C3-8EEB-4D8859D4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FDE1-6F5F-4B1C-B974-82534E06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D723C-CEBF-4368-8275-AFEF2E6D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0CD1B-9B7F-4B19-A74B-B45AD538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9E162-73CE-4C34-AF97-5A0D05D5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38DB5-14C0-4832-8450-2020044A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83AF0-A7DD-4F87-A8E8-BA994F91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333B3-634F-42D1-8CE8-AC4BBEC8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2C389-3490-4DF9-B87E-93478C58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C954C-672E-4B8B-8931-C69CBC71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3643C-8455-49C1-8C3E-7A480406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F4B26-54C4-4F88-B900-B029A039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1983-E90F-4EEA-A704-6670B952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A48CB-5332-4C4E-9EBD-1F8C67B5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13E0-EA35-452D-A3BF-2E02FA7D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29225-F50D-4071-9115-202D7988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CEB84-C76F-46EF-8EDF-ACE86B0D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BB173-4B48-47CC-872E-B118310B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29024-104E-4616-9EB6-B071DDD7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888EB-570C-4505-9BDC-A536520B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09EC2-3C6F-422F-BB7D-3711A52F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D2C5F-FFDA-46F8-94CE-A0788870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F6484-0DEA-41B3-A902-539BCB89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7259-517C-48D5-B8BE-3D2269E3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CDE4D-170E-46EC-A773-5B698634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597C3-A5FB-4461-8193-5392EFA9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73D85-509C-48F8-9347-7F23E416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FD6F7-83BE-4360-9C63-F2274D32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0B838-C0FD-4024-A6E9-5D08ACF6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5032A-166F-4662-AB4B-887B6945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4D7F0-F072-407A-A69A-67897059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999E1-7B50-4986-9EA4-140108D1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5D327-8969-4771-9038-B8AFB496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CAADE-A06F-4BCE-A195-4B090FEC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10BE-43F2-48AC-AFC9-005326C5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62F7E-5C96-4D5E-96BA-263B870F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28DF8-ACE1-4701-B181-9019DD9B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9DB6D-D2F5-4DD6-BC46-E2C03B8E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C7E3F-8099-4051-94F9-09C60B48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78FF0-1944-4218-8839-4490DE03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DEEBD-B0BF-4B95-8451-E0C594E3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A7256-1E99-42BD-9555-43947E6B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43051-62E3-4AC5-BB1A-8C5C82CB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10F9A-283D-42D3-9AD3-0CF60387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B59BD-C322-4A8E-B7AB-5871D44A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6D6-5758-4C3A-BB2D-5C5ADBB5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51DD3-B37C-4AD5-8C49-B07AE9AE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FE8D-9E43-48F7-922D-92F3511C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70B-35D5-47B8-B558-71CB468B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3B30-2A62-45FC-93F1-DC7E80BA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59BE-5527-4AC8-8F55-A820C2BCBD56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5" name="Picture 10" descr="SHORT_THL_LOGO_RGB_large.jpg"/>
          <p:cNvPicPr/>
          <p:nvPr/>
        </p:nvPicPr>
        <p:blipFill>
          <a:blip r:embed="rId2"/>
          <a:stretch/>
        </p:blipFill>
        <p:spPr>
          <a:xfrm>
            <a:off x="3124080" y="4038480"/>
            <a:ext cx="2603520" cy="1063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0" y="0"/>
            <a:ext cx="9144000" cy="380988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7" name="Picture 14" descr="THL_KV_LOGO_PPT.JPG"/>
          <p:cNvPicPr/>
          <p:nvPr/>
        </p:nvPicPr>
        <p:blipFill>
          <a:blip r:embed="rId3"/>
          <a:stretch/>
        </p:blipFill>
        <p:spPr>
          <a:xfrm>
            <a:off x="2209680" y="5226120"/>
            <a:ext cx="4572000" cy="226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C4D9-0A1E-4E7E-B501-DB2196843C99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6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90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92" name="Suorakulmio 6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1DBA-6145-43E7-96F8-65D24E52D2E3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35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137" name="Suorakulmio 7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ACAC-48FF-4722-9EAC-974E5A19B2DA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80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182" name="Suorakulmio 5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ACE8-BA53-4FF5-BCB1-BBD711615F9E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0" name="Dian numeron paikkamerkki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C02B-2795-46CD-B0AB-5B42803ADA93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14300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MARAC</a:t>
            </a:r>
            <a:r>
              <a:rPr b="1" lang="fi-FI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 Agency Risk Assessment Conferenc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68360" y="2631600"/>
            <a:ext cx="82072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The Finnish experiences since 2010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3" name="Alatunnisteen paikkamerkki 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74" name="Picture 7" descr="ylabanneri_7.jpg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Aims of MARAC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03030"/>
                </a:solidFill>
                <a:uFillTx/>
                <a:latin typeface="Arial"/>
              </a:rPr>
              <a:t>For the authorities/agencies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hare information between authorities to increase the safety, health and well-being of victims and their children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uce the risk of harm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, cut costs of violence, decrease unnecessary work, improve follow-up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03030"/>
                </a:solidFill>
                <a:uFillTx/>
                <a:latin typeface="Arial"/>
              </a:rPr>
              <a:t>For the victim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Reduce repeat victimization/reoccurrence of violenc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prove the safety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of the victim of domestic violenc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4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5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6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E8B6-EBBD-43A1-B085-75C96526DBA8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8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9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C2A5-612C-4473-9C09-264C0B0DE8FD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0" name="Pyöristetty suorakulmio 4"/>
          <p:cNvSpPr/>
          <p:nvPr/>
        </p:nvSpPr>
        <p:spPr>
          <a:xfrm>
            <a:off x="2805120" y="246240"/>
            <a:ext cx="2305080" cy="109512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Identify the Victim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1" name="Pyöristetty suorakulmio 5"/>
          <p:cNvSpPr/>
          <p:nvPr/>
        </p:nvSpPr>
        <p:spPr>
          <a:xfrm>
            <a:off x="2805120" y="1557360"/>
            <a:ext cx="2305080" cy="100800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Do the Risk Assessment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(MARAC form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2" name="Pyöristetty suorakulmio 6"/>
          <p:cNvSpPr/>
          <p:nvPr/>
        </p:nvSpPr>
        <p:spPr>
          <a:xfrm>
            <a:off x="1258920" y="2708280"/>
            <a:ext cx="1657440" cy="1015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Risk not elevate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3" name="Alanuoli 7"/>
          <p:cNvSpPr/>
          <p:nvPr/>
        </p:nvSpPr>
        <p:spPr>
          <a:xfrm rot="2700000">
            <a:off x="3080880" y="2733120"/>
            <a:ext cx="432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4" name="Alanuoli 8"/>
          <p:cNvSpPr/>
          <p:nvPr/>
        </p:nvSpPr>
        <p:spPr>
          <a:xfrm rot="18900000">
            <a:off x="4379760" y="2733840"/>
            <a:ext cx="432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5" name="Pyöristetty suorakulmio 9"/>
          <p:cNvSpPr/>
          <p:nvPr/>
        </p:nvSpPr>
        <p:spPr>
          <a:xfrm>
            <a:off x="5003640" y="2708280"/>
            <a:ext cx="1656000" cy="1015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Risk is elevate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6" name="Pyöristetty suorakulmio 10"/>
          <p:cNvSpPr/>
          <p:nvPr/>
        </p:nvSpPr>
        <p:spPr>
          <a:xfrm>
            <a:off x="1035000" y="4038480"/>
            <a:ext cx="1160640" cy="1152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Do the necessary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measures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7" name="Pyöristetty suorakulmio 11"/>
          <p:cNvSpPr/>
          <p:nvPr/>
        </p:nvSpPr>
        <p:spPr>
          <a:xfrm>
            <a:off x="5003640" y="3951360"/>
            <a:ext cx="1297080" cy="1152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Ask for consent for MARAC team handling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8" name="Pyöristetty suorakulmio 12"/>
          <p:cNvSpPr/>
          <p:nvPr/>
        </p:nvSpPr>
        <p:spPr>
          <a:xfrm>
            <a:off x="6408720" y="3936960"/>
            <a:ext cx="1116000" cy="1150920"/>
          </a:xfrm>
          <a:custGeom>
            <a:avLst/>
            <a:gdLst>
              <a:gd name="textAreaLeft" fmla="*/ 54360 w 1116000"/>
              <a:gd name="textAreaRight" fmla="*/ 1061640 w 1116000"/>
              <a:gd name="textAreaTop" fmla="*/ 54360 h 1150920"/>
              <a:gd name="textAreaBottom" fmla="*/ 1096560 h 1150920"/>
            </a:gdLst>
            <a:ahLst/>
            <a:rect l="textAreaLeft" t="textAreaTop" r="textAreaRight" b="textAreaBottom"/>
            <a:pathLst>
              <a:path w="21600" h="22276">
                <a:moveTo>
                  <a:pt x="3600" y="0"/>
                </a:moveTo>
                <a:arcTo wR="3600" hR="3600" stAng="16200000" swAng="-5400000"/>
                <a:lnTo>
                  <a:pt x="0" y="18676"/>
                </a:lnTo>
                <a:arcTo wR="3600" hR="3600" stAng="10800000" swAng="-5400000"/>
                <a:lnTo>
                  <a:pt x="18000" y="222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Do the necessary measures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9" name="Pyöristetty suorakulmio 13"/>
          <p:cNvSpPr/>
          <p:nvPr/>
        </p:nvSpPr>
        <p:spPr>
          <a:xfrm>
            <a:off x="7667640" y="3951360"/>
            <a:ext cx="1081080" cy="11523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152360"/>
              <a:gd name="textAreaBottom" fmla="*/ 1099800 h 1152360"/>
            </a:gdLst>
            <a:ahLst/>
            <a:rect l="textAreaLeft" t="textAreaTop" r="textAreaRight" b="textAreaBottom"/>
            <a:pathLst>
              <a:path w="21600" h="23024">
                <a:moveTo>
                  <a:pt x="3600" y="0"/>
                </a:moveTo>
                <a:arcTo wR="3600" hR="3600" stAng="16200000" swAng="-5400000"/>
                <a:lnTo>
                  <a:pt x="0" y="19424"/>
                </a:lnTo>
                <a:arcTo wR="3600" hR="3600" stAng="10800000" swAng="-5400000"/>
                <a:lnTo>
                  <a:pt x="18000" y="230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Offer contact to victim support 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0" name="Alanuoli 14"/>
          <p:cNvSpPr/>
          <p:nvPr/>
        </p:nvSpPr>
        <p:spPr>
          <a:xfrm rot="2700000">
            <a:off x="5181840" y="5301000"/>
            <a:ext cx="432000" cy="5032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1" name="Pyöristetty suorakulmio 15"/>
          <p:cNvSpPr/>
          <p:nvPr/>
        </p:nvSpPr>
        <p:spPr>
          <a:xfrm>
            <a:off x="2698920" y="5133960"/>
            <a:ext cx="2304720" cy="115272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Post the MARAC form and the consent form to the local MARAC team’s secretary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The MARAC process 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4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3B90-0649-4A8A-A8A7-15D245D2C73D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754680" cy="4620960"/>
          </a:xfrm>
          <a:prstGeom prst="rect">
            <a:avLst/>
          </a:prstGeom>
          <a:ln w="0">
            <a:noFill/>
          </a:ln>
        </p:spPr>
      </p:pic>
      <p:sp>
        <p:nvSpPr>
          <p:cNvPr id="347" name="Nuoli oikealle 6"/>
          <p:cNvSpPr/>
          <p:nvPr/>
        </p:nvSpPr>
        <p:spPr>
          <a:xfrm>
            <a:off x="468360" y="2090880"/>
            <a:ext cx="934920" cy="57456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439560" y="3645000"/>
            <a:ext cx="963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0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1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B8BC-5DE2-4989-B56D-C126DA1C0357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1004760" y="23760"/>
            <a:ext cx="7134480" cy="5886360"/>
          </a:xfrm>
          <a:prstGeom prst="rect">
            <a:avLst/>
          </a:prstGeom>
          <a:ln w="0">
            <a:noFill/>
          </a:ln>
        </p:spPr>
      </p:pic>
      <p:sp>
        <p:nvSpPr>
          <p:cNvPr id="353" name="Tekstiruutu 4"/>
          <p:cNvSpPr/>
          <p:nvPr/>
        </p:nvSpPr>
        <p:spPr>
          <a:xfrm>
            <a:off x="324000" y="69228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The risk assesment form is a tool for mapping violence: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Risk Indicator Checklis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355" name="Sisällön paikkamerkki 2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45520" cy="4992480"/>
          </a:xfrm>
          <a:prstGeom prst="rect">
            <a:avLst/>
          </a:prstGeom>
          <a:ln w="0">
            <a:noFill/>
          </a:ln>
        </p:spPr>
      </p:pic>
      <p:sp>
        <p:nvSpPr>
          <p:cNvPr id="35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7" name="Alatunnisteen paikkamerkki 4"/>
          <p:cNvSpPr/>
          <p:nvPr/>
        </p:nvSpPr>
        <p:spPr>
          <a:xfrm>
            <a:off x="1541520" y="6597720"/>
            <a:ext cx="604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CADE-E044-42BD-93BF-76AA1F53F89A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An example of the MARAC-team’s Agenda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988560"/>
            <a:ext cx="821844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Agenda of the MARAC-team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Time: Wednesday 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28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1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1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2018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.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 at 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13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0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Place: </a:t>
            </a:r>
            <a:r>
              <a:rPr b="0" lang="lt-LT" sz="1800" spc="-1" strike="noStrike">
                <a:solidFill>
                  <a:srgbClr val="303030"/>
                </a:solidFill>
                <a:latin typeface="Arial"/>
              </a:rPr>
              <a:t>Leona Paegles 1, Cesi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Opening of the meeting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Approval of Agenda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Minutes of previous Meeting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omination of Chair and Secretary for 2018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Status of case 9/2017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w case TKM1/2018, presented by police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w case THK 2/2018, presented by social services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xt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Closing of the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C307-9F7F-4FB4-ACDA-440CB9912D73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sults of the model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2828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UK police: MARAC decreased reoccurring of domestic violence cases by 2/3 (2004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 Cardiff: 60 % of victims handled by MARAC did not face reoccurrance of violence in the following 6 months (2004, 2009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 Finland, after 6 months of entering MARAC, 15 % of victims had faced reoccurrence of domestic violence (when 6 months prior to entering, likelyhood of reoccurrance was at 60% level), thus, MARAC reduced reoccurring crime offence reports by over 70 %  (2015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7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7B20-F104-4C24-A1BB-7D4F73E8B03E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THL study of the effectivity (2010-2015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Data collection: Police records, victim interviews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382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cases have been referred to MARAC in Finland during 1.10.2010-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30.3.2015 , who gave consent to use data in the study (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95 % of victims are women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Police files were pulled six months after the MARAC was held (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N=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03030"/>
                </a:solidFill>
                <a:latin typeface="Arial"/>
              </a:rPr>
              <a:t>365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terviews (n=70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F0DF-7B06-4004-9FA2-8C82B6C8B387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Age of the victim referred to MARAC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57200" y="1484280"/>
          <a:ext cx="8218440" cy="296712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8-2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5-3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1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5-4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5-5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5-6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Not specified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82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</a:tbl>
          </a:graphicData>
        </a:graphic>
      </p:graphicFrame>
      <p:sp>
        <p:nvSpPr>
          <p:cNvPr id="37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7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CC00-0C8A-4435-94D8-F04B345D7BDA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9" name="Tekstiruutu 8"/>
          <p:cNvSpPr/>
          <p:nvPr/>
        </p:nvSpPr>
        <p:spPr>
          <a:xfrm>
            <a:off x="1289880" y="5181480"/>
            <a:ext cx="43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  <a:ea typeface="Arial"/>
              </a:rPr>
              <a:t>Most often victims are 25-44 years ol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Reoccurrence of violence and abuse</a:t>
            </a:r>
            <a:br>
              <a:rPr sz="2800"/>
            </a:b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(recorded before and 6 months after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57200" y="1484280"/>
          <a:ext cx="8218440" cy="231156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0.2010-30.3.2015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365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</a:tr>
              <a:tr h="7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Crime reported to police prior to MARAC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32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7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Crime reported to police 6 months after MARAC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</a:tbl>
          </a:graphicData>
        </a:graphic>
      </p:graphicFrame>
      <p:sp>
        <p:nvSpPr>
          <p:cNvPr id="38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F59F-0D7E-4F94-B49A-67C21E8EB9FE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5" name="Tekstiruutu 7"/>
          <p:cNvSpPr/>
          <p:nvPr/>
        </p:nvSpPr>
        <p:spPr>
          <a:xfrm>
            <a:off x="1163160" y="4537080"/>
            <a:ext cx="72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  <a:ea typeface="Arial"/>
              </a:rPr>
              <a:t>Re-</a:t>
            </a:r>
            <a:r>
              <a:rPr b="0" lang="en-GB" sz="1800" spc="-1" strike="noStrike">
                <a:solidFill>
                  <a:srgbClr val="303030"/>
                </a:solidFill>
                <a:latin typeface="Arial"/>
                <a:ea typeface="Arial"/>
              </a:rPr>
              <a:t>victimisation was reduced in more than 70 per cent of the case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Structure of the presentation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Why: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Prevalence and impact of violence against women and domestic violence in Europe 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What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is MARAC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How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MARAC works and our experiences of its effectivity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7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8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9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836A-E1A3-4324-ACB2-9FED17EC78CC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7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8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CFB2-7DA4-4B00-BB8F-E214FB00DDFF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9" name="Tekstiruutu 4"/>
          <p:cNvSpPr/>
          <p:nvPr/>
        </p:nvSpPr>
        <p:spPr>
          <a:xfrm>
            <a:off x="755640" y="907920"/>
            <a:ext cx="287964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03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MARAC in Finland in 2017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Covers over 2,5 million inhabitants (population of 5,4 million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34 MARAC teams functioning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Over 100 municipalities, 1-3 in each County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90" name="Kuva 5" descr=""/>
          <p:cNvPicPr/>
          <p:nvPr/>
        </p:nvPicPr>
        <p:blipFill>
          <a:blip r:embed="rId1"/>
          <a:stretch/>
        </p:blipFill>
        <p:spPr>
          <a:xfrm>
            <a:off x="3995640" y="836640"/>
            <a:ext cx="4824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Key factors for succeeding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303030"/>
                </a:solidFill>
                <a:uFillTx/>
                <a:latin typeface="Arial"/>
              </a:rPr>
              <a:t>When adapting the model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eparate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funds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/project funds necessary for start-up/piloting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For the model to work, asking about violence should be made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routine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 in client encounters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ystematic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training of professionals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crucia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Winning over the hearts and minds of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uperior(s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7C6C-4DC0-480C-B30C-2390728C4223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cent legal developments in Finland with regard to MARAC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nland ratified the 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Istanbul Convention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(CoE Convention on preventing and combating violence against women and domestic violence) in 1.8.2015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Obligates the state to fully address Violence against Women it in all its forms and to take measure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event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violence against wome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tect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its victims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secute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the perpetrators.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rt. 18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fective multi-agency collaboration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rt. 51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sk assessment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nd risk managemen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8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9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0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8F54-DD2D-4DB3-A943-42C9EF8AF56A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cent legal developments in Finland (continues)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28320" indent="-3283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New 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Social Welfare Act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entered into force 1.4.2015. 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575280" indent="-24372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Obligates the local municipalities to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rovide services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o a person encountering violence, incl. Domestic and Interpersonal Violence.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e Act on reimbursement out of State funds for providers of 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shelters for victims of domestic violenc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entered into frce 1.1.2015.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The shelters financed by the state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uarantees qualitative and comprehensive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rvices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The shelters ar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pen for anyone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– women, men and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hildren of all ages – who have experienced acts or are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reatened by acts of domestic violence. (Children usually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tay in the shelter with their parent.)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575280" indent="-24372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E023-D18B-497F-A2CF-6E78B4D003EA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7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8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B2FA-F332-43BE-95D9-FE637FEA9D0E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843280" y="289080"/>
            <a:ext cx="3456000" cy="6279840"/>
          </a:xfrm>
          <a:prstGeom prst="rect">
            <a:avLst/>
          </a:prstGeom>
          <a:ln w="0">
            <a:noFill/>
          </a:ln>
        </p:spPr>
      </p:pic>
      <p:sp>
        <p:nvSpPr>
          <p:cNvPr id="410" name="Tekstiruutu 4"/>
          <p:cNvSpPr/>
          <p:nvPr/>
        </p:nvSpPr>
        <p:spPr>
          <a:xfrm>
            <a:off x="324000" y="1484280"/>
            <a:ext cx="419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Shelters in Finland 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in 2017: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Now 143 places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T.b. Increased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Funding +40 %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Thank you!</a:t>
            </a:r>
            <a:br>
              <a:rPr sz="3600"/>
            </a:b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39280" y="378936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martta.october@thl.fi, +358 29 524 7710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www.thl.fi/marak (mostly in Finnish)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www.safelives.org.uk (MARAC info/UK)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25F9-E6AC-43A0-82E7-226B81C4A504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16" name="Picture 2" descr="M:\_Pictures\pöllöt.PNG"/>
          <p:cNvPicPr/>
          <p:nvPr/>
        </p:nvPicPr>
        <p:blipFill>
          <a:blip r:embed="rId1"/>
          <a:stretch/>
        </p:blipFill>
        <p:spPr>
          <a:xfrm>
            <a:off x="1593720" y="1052640"/>
            <a:ext cx="5913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15640" y="-150120"/>
            <a:ext cx="7559640" cy="4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lv-LV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281" name="Sisällön paikkamerkki 6" descr=""/>
          <p:cNvPicPr/>
          <p:nvPr/>
        </p:nvPicPr>
        <p:blipFill>
          <a:blip r:embed="rId1"/>
          <a:stretch/>
        </p:blipFill>
        <p:spPr>
          <a:xfrm>
            <a:off x="755640" y="0"/>
            <a:ext cx="7777080" cy="6165720"/>
          </a:xfrm>
          <a:prstGeom prst="rect">
            <a:avLst/>
          </a:prstGeom>
          <a:ln w="0">
            <a:noFill/>
          </a:ln>
        </p:spPr>
      </p:pic>
      <p:sp>
        <p:nvSpPr>
          <p:cNvPr id="28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85F1-5494-452A-AB81-88DB0944D853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6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7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C97F-62EE-4782-8340-5ABDC6F24A27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88" name="Kuva 4" descr=""/>
          <p:cNvPicPr/>
          <p:nvPr/>
        </p:nvPicPr>
        <p:blipFill>
          <a:blip r:embed="rId1"/>
          <a:stretch/>
        </p:blipFill>
        <p:spPr>
          <a:xfrm>
            <a:off x="609480" y="0"/>
            <a:ext cx="7912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Domestic violence (even only between parents) is an ACE (Adverse Childhood Experience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290" name="Sisällön paikkamerkki 7" descr=""/>
          <p:cNvPicPr/>
          <p:nvPr/>
        </p:nvPicPr>
        <p:blipFill>
          <a:blip r:embed="rId1"/>
          <a:stretch/>
        </p:blipFill>
        <p:spPr>
          <a:xfrm>
            <a:off x="900000" y="1339920"/>
            <a:ext cx="6985080" cy="4951440"/>
          </a:xfrm>
          <a:prstGeom prst="rect">
            <a:avLst/>
          </a:prstGeom>
          <a:ln w="0">
            <a:noFill/>
          </a:ln>
        </p:spPr>
      </p:pic>
      <p:sp>
        <p:nvSpPr>
          <p:cNvPr id="29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74DF-C6E5-4CF1-835C-75B068233EAE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519b2f"/>
                </a:solidFill>
                <a:latin typeface="Arial"/>
              </a:rPr>
              <a:t>Homicides in Intimate partner relationships in Finland</a:t>
            </a:r>
            <a:endParaRPr b="1" lang="en-US" sz="32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95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6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7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A875-A498-4364-9F13-28EC9992D3BB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397160" y="1674720"/>
            <a:ext cx="633888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Violence against women in intimate partner relations </a:t>
            </a:r>
            <a:br>
              <a:rPr sz="2800"/>
            </a:b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– the whole pictur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00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1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2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D990-CA95-433A-9029-9A67FB0B263C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54800" cy="4068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2"/>
          <a:stretch/>
        </p:blipFill>
        <p:spPr>
          <a:xfrm>
            <a:off x="2556000" y="2205000"/>
            <a:ext cx="933480" cy="158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3"/>
          <a:stretch/>
        </p:blipFill>
        <p:spPr>
          <a:xfrm>
            <a:off x="2073240" y="3095640"/>
            <a:ext cx="933480" cy="158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4"/>
          <a:stretch/>
        </p:blipFill>
        <p:spPr>
          <a:xfrm>
            <a:off x="1447920" y="4229280"/>
            <a:ext cx="804600" cy="158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5"/>
          <a:stretch/>
        </p:blipFill>
        <p:spPr>
          <a:xfrm>
            <a:off x="7770960" y="3174840"/>
            <a:ext cx="128520" cy="1694160"/>
          </a:xfrm>
          <a:prstGeom prst="rect">
            <a:avLst/>
          </a:prstGeom>
          <a:ln w="0">
            <a:noFill/>
          </a:ln>
        </p:spPr>
      </p:pic>
      <p:sp>
        <p:nvSpPr>
          <p:cNvPr id="308" name="Tekstiruutu 6"/>
          <p:cNvSpPr/>
          <p:nvPr/>
        </p:nvSpPr>
        <p:spPr>
          <a:xfrm>
            <a:off x="324000" y="20606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21/year on average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(2003-2013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9" name="Tekstiruutu 8"/>
          <p:cNvSpPr/>
          <p:nvPr/>
        </p:nvSpPr>
        <p:spPr>
          <a:xfrm>
            <a:off x="755640" y="2781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3300/year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(in 2013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0" name="Tekstiruutu 9"/>
          <p:cNvSpPr/>
          <p:nvPr/>
        </p:nvSpPr>
        <p:spPr>
          <a:xfrm>
            <a:off x="324000" y="3860640"/>
            <a:ext cx="13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10 % of all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victim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1" name="Tekstiruutu 10"/>
          <p:cNvSpPr/>
          <p:nvPr/>
        </p:nvSpPr>
        <p:spPr>
          <a:xfrm>
            <a:off x="324000" y="4869000"/>
            <a:ext cx="23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30% of females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over the age of 15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2" name="Tekstiruutu 11"/>
          <p:cNvSpPr/>
          <p:nvPr/>
        </p:nvSpPr>
        <p:spPr>
          <a:xfrm>
            <a:off x="6732720" y="1628640"/>
            <a:ext cx="480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nnually 8 %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of the people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 intimate partner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relationship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(approx. 100 000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4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5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4A42-5505-4BA5-9A63-A553079D1C0D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090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What is MARAC?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MARAC is a local, multi agency victim-focused meeting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e risk assessment process is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ult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ctims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rious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domestic violence/abus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In the meetings information is shared on the highest risk cases of domestic violence and abuse between different statutory and voluntary sector agencies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In Finland, MARAC procedures and standards for operating MARAC meetings are coordinated by THL (National Institute for Health and Welfare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Video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 u="sng">
                <a:solidFill>
                  <a:srgbClr val="303030"/>
                </a:solidFill>
                <a:uFillTx/>
                <a:latin typeface="Arial"/>
              </a:rPr>
              <a:t>https://www.youtube.com/watch?v=alje4zJOHIw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9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0" name="Alatunnisteen paikkamerkki 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1" name="Dian numeron paikkamerkki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188A-8465-4051-892E-335F5BBFFF43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7:05Z</dcterms:created>
  <dc:creator>Jaakko Säkö</dc:creator>
  <dc:description/>
  <dc:language>en-US</dc:language>
  <cp:lastModifiedBy>Laura Kornete</cp:lastModifiedBy>
  <cp:lastPrinted>2018-11-28T07:41:21Z</cp:lastPrinted>
  <dcterms:modified xsi:type="dcterms:W3CDTF">2019-04-03T07:49:52Z</dcterms:modified>
  <cp:revision>95</cp:revision>
  <dc:subject>suomi</dc:subject>
  <dc:title>Dia 1</dc:title>
</cp:coreProperties>
</file>